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BFF0-73E1-419F-924F-8A7019F94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26FC-456C-4F35-B365-4D5D8C000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3D59-C86F-4589-A970-EBD2C8440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2A3F-B9E8-463E-94C2-EC8D5F2A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DE27-05F7-42F9-93A3-DBAAA7F38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10E9-3024-4618-B431-36002997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4BF7-97AE-47B0-B0EE-E3FDD69CC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CC93-3C5D-468F-B885-F1FD682D6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419A-56FD-4C69-9CD8-740AE987D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A8B2-18CC-4AFB-9F6A-12ED5A8F4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2BE9-8A3C-4D00-9978-472DDB345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CB82-5765-48E6-8BF4-1D362F7D5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A822-8AE0-4E7E-814C-4B7A8F21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9CA7-15CC-49E0-B288-C0B0A5BE8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69D-BEBF-4A12-A89F-DE15C3E2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AF8-11CC-4B2F-AF55-AF3EB73C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C30-4213-40C3-93F7-5DBA8FCF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A36-8684-4927-A3CF-20F52C61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6816-F1B8-432B-B511-83FA82AC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52C6-382A-4798-9F73-4D48CFCD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885C-9807-4119-8ABB-27B2C8B8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2362-D9A4-4DE9-BBC8-4809FA60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3254-5F96-4361-8CBC-D739E5E9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06FA-A601-4CBA-9C68-E7A9530B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1902-655A-4DAF-ADE9-C42C8271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E09-9BF1-494A-A633-2E23952B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B0CD-2332-4A04-A2E4-54478625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1494-A0B7-4A11-962F-1B2ED104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8579-0B29-458A-84D3-D11665D3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384D-6888-4E2F-B172-EC8EB2DF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2523-BFC5-4F63-8DDD-DD8584BE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A0D-FEE6-4A22-B27B-EEE27F4D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8A7-CE53-4CAE-8B6C-22273393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24D-AA6E-45A6-AE7B-778F3893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899-B5D4-405F-9700-9D254772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9C2-00C1-46D0-850C-5A0B648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F66-9487-405E-9470-667E7AE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C86-F912-4740-9873-9670CAD0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B007-0C60-4515-96CD-DD2F94A5F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6303-324A-47B1-8873-4314A3D0157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rgit De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persite vhlcentr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ta Higher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g 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options and pr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site and WebS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site Pl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site Plus and WebS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se-leaf or no text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SAM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ended Learn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in vhlcentr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new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new vocabulary and grammar in structured exerci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Pronun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cultural texts with exerci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ch cultural video and answer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vocabulary and grammar in interactive exercises and with free respon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new concepts in communicative, unscripted exerci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ended Learning (continued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class (continued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marize 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 (better: proctored outside classroo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vocabulary and grammar concepts in all types of workbook and lab manual exerci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-chat, if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 for quizz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nec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boo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nch: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Vis-à-v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rman: Kontak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alian: Ava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anish: Tu mundo (new version of dos mun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chas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ways e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BLM activities op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nect Learnsmar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practice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vers different aspects of each chap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ssignment is done correctly, it disappears out of question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self-ass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practice where they need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course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textbook and all ancill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rial account for online material and try it 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components and price of course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classes 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rn to use the online platform, get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sure online platform works in your school or on your camp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up course and prepare student login ma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your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patient when real or perceived software problems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i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rse material has been made available 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b man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rning Too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 tools for today’s digit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 c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tor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ive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lin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tructor Too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 tools for today’s digit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Reposi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ments with due 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de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-grading exerci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ible student wri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dvantag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 or wro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e ans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feel comfortable with online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nd a lot of time with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rn with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ct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u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fferent textboo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ao - Cengage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utsch heute - Cengage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used as online workbook/lab 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book and lab manual simply put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c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use and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ex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g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de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entr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Graw-Hi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s mun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a at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a embedded in Cent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o offers ex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sh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tor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entro Course Set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or receives book key from publis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or creates ac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or creates 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or generates cours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creates ac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enters cours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enters book key after purchasing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entro Assign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ice of textbook or workbook/lab 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-g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or-gra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re and k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00:52:50Z</dcterms:created>
  <dc:creator>Information Technology Services</dc:creator>
  <dc:description/>
  <dc:language>en-US</dc:language>
  <cp:lastModifiedBy>bdeir9</cp:lastModifiedBy>
  <dcterms:modified xsi:type="dcterms:W3CDTF">2014-03-07T19:21:34Z</dcterms:modified>
  <cp:revision>286</cp:revision>
  <dc:subject/>
  <dc:title>Slide 1</dc:title>
</cp:coreProperties>
</file>